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8F6-75C9-4D05-A8C8-206FDA57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571-2F92-4B01-875E-ADDF59C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7BA35-C93F-40D3-89DD-ABF2167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8C7B0-E1C4-4DD5-A4D7-916D8717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6F170-670D-4334-B005-3CE247FE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AE318-8145-4D7A-AB1F-732E44E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8556D-E18F-4256-82F9-0F42CF0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ED649-8178-419A-B999-238BFC5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8DD35-5F1A-4C3A-83F2-7CB36DEC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77908-11A1-4B5C-B4A7-1F027B1F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6064AF-EBC7-4ED6-8828-A845E45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96B0B-C818-4E7C-BCE9-3B669679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952-B8D4-4F73-88CF-C86AB8C1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2A080-F187-414B-B77D-585126A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31AA3-424E-4B5D-A5A1-1D9E5BF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264D8-E15D-489C-8A74-4C8AA710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8777F-869D-47E0-ADB5-471245A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50514-B2F3-45E1-99CF-8B2E663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8E454-4879-48CE-ACE3-888D26D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98255-69E6-42E0-911A-150D0FED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9BF12-7C7E-44D9-8870-5BB28FF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810CA-EC1D-440D-AF89-94E2F6CF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0616AD-0E89-43C9-8C7D-6380D64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C8E-6098-4A01-BA19-CDA036AE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41C35-3D8E-49B8-B2BD-9D8A7357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E469-C916-44B9-AD26-AEF2E9C6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356C0-2030-482B-A02F-BA9F114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421A-3959-4E83-9298-CE3C8D1D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1BD6E-43B5-436C-B1AD-21DF185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471AE-E404-40BA-9FCD-D2796880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42DCB-C052-4AA9-880D-0C6EA64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FA1E3-B533-42F6-AA85-AB59D5E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02300-3F83-40DD-8D0C-345CD5D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177C1-53BC-49C6-A723-DC4F4DC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3C966-3F2E-45BB-9111-5AFAB09B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32781-CD14-43F6-BED6-D752745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FEFFD-8859-4F73-9D57-63F1549B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1FE9-0124-44C1-AC00-2A343DA8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873A1-D4F7-47C3-B4A0-64EB875B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1C47F-7085-47B5-BB71-46B39528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2855E-A0D1-4B93-8EF7-5FC5E6ED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FEB7C-C47B-4D91-B36A-4629767D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846FE-D278-4696-9DD2-E668A10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19E01-C4FC-4BC0-824A-B9DFFBA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4A6DB-C639-46FD-9F06-79F2172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2E2D-ABFA-4076-8903-82B9D3F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DACF9-4672-4D69-B28E-8F0579B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324AB-643C-4C0D-AAF7-DAD8277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C648-C26A-428E-BA1D-02934E5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E992-61F7-46AF-BF58-3FA5B2E8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120E6-F4B6-433D-B2E3-0278C4D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04664-10EC-4A33-B406-02A735E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E774C-10FE-468D-9179-C623A10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9DE7-9E90-46B3-93A2-58793E7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CFF47-234E-4016-A642-629E1E7E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07FDC-EF9F-4B7C-B33C-8B7216D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160-0AE6-4B03-89CC-AC54FAB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D1F52-2F19-4B42-9EA4-EC7CAE8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5B11-A6EF-46C2-9991-84A09EE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F80A9-BA73-4B7B-A76A-ACF1E52D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C8DF-62D4-4C1D-B515-A78665A6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77AB6-1607-4405-821B-A1504BE2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A5E47-4628-46E1-8055-709FBBF4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A2A0F-C602-49B4-9943-D7B8B9F1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8E487-5B9F-47D0-86DE-5E4908F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5326B-C215-481A-93C7-3452C896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47BB3-86D2-4C01-80E6-B80AA34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154-6BCA-4C8B-8160-FA9C336B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0B722-13A8-4EF6-BCB0-13E2C95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F8BEF-3117-4616-BCE2-0ABD714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5039C-8C2F-4792-81A4-8F12CD83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4C5E8-31AA-4FCB-A990-8AE6975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A0C92-D000-47A3-BC8F-B0DEA0E7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0FE33-5BFA-44D8-86A2-C0CAED7D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A402E-7D21-4DA4-AE4B-E5433EF9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82923-3D70-4F77-B6C5-A8D130F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0CAFC-5573-43B4-953A-DEB7DF4F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467D0-03E1-47AB-AD2E-ACCC8BE7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A3F-5032-444A-9385-34BBC5C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0CDD2-D7A2-49A9-96F0-9A006D6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B7D1E-341D-49BD-AA15-867B735C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07A34-C221-4568-9B90-3D8426ED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AFCED-C0B7-4310-AD9E-B9ED6AC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90F98-E8FD-40C4-9506-BB63254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B1038-F2AA-4A98-B105-D7C51F0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290AB-6C4D-45CE-8948-96758683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B8098-A010-4CE0-ABAF-22B44611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BC8F9-DCE5-453F-83E8-FAF5D7B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3AC5E-92DE-4A09-A4E1-F72F046B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FB4-6B4A-4B6B-A047-D34F07F7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58A69-C5C8-4F01-9A51-A41DBDA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8BB4E-11D5-476F-9FE2-02681D9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F8AED-CF83-47BF-894B-B5DEEE0A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14793-D2E6-4D7B-B6BD-45C5A18D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E0B12-F6F1-4D60-837A-A76919B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55FD5-D3DA-4422-9703-2ECA2B3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47638-D3B1-4D32-87B3-FB4EFA2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049F9-2BA2-4D82-881B-6066FA2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3D2B4-4A54-43B1-BA81-16A5AA7F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B76FB-36B3-4562-80C6-88035BAB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AFB-5990-42AC-9E55-2A8BF6CC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3704F-3882-40D1-BC5D-C7CE2A2C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FE30F-D34A-4FD2-8E50-5583BB85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DF478-172D-49FF-9622-C17FB75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122BF-0257-4ABE-9039-78B74135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C9BFA-3661-4296-BFD5-2152DAE7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498C0-54F3-4454-BE48-93F7EF8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BEC44-E4D8-4168-B2DB-9BD3DFE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4E105-E324-48D9-9109-7415DC5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6DE76-DA67-46E4-9A3D-9022006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DDC72-A69B-4EC5-9C18-835EA34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E26-7C2D-4B8A-B948-DFCA934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3B989-797F-4985-9561-92C8A337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14B83-C556-4210-ADDA-3F5763DC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05C0C-BE4E-40BF-9DE4-9F02A1A6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0F227-BE9B-4719-BDE2-77B72567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FBBF8-4111-4F3F-AC34-9C3F687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D20CA-398C-40F4-9177-0C8B7CD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80219-99C5-4147-A1EA-FB39B6E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1D24E-BCBC-42C9-8E9F-DE639E7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1D506-C42A-4BDA-9A42-4BAA44E4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2DD58-DA33-4BBF-A3F3-D8A9286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F94-1A5D-484D-A931-D28104E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E76F1-DDFD-4D97-8C43-48C9CDE5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51C22-7B33-435E-83CE-341F277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330BC-B2C5-44A4-98CD-D88E592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5793E-1D06-4143-947C-DD85A396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82916-A38B-4186-801F-343DBF3C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62D5D-7309-4CE0-A918-46EE1B0B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FFAED-8214-44F3-ABD3-F35AD62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0B368-B274-49FC-920E-A75F9C5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736EE-23C3-41B0-A074-243435F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8FC82B-2BE3-4E09-959D-FAB4E7C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98B-5616-4A14-93B6-30CF414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D0C64-BABD-4034-9C20-CAFF1461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CF350-C553-4652-B620-B720081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2F2BA-A941-42D0-B30E-95E580B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D17A8-4C43-422B-802B-57686DB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D0AF8-87AB-4452-949C-3CAE4907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37E92-4366-4081-92A5-38D97EBE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B590A-98AB-4AA3-938E-1387EB61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38EAD-9CD7-4C4E-8707-128FD134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4D07F-F14E-43DC-9732-6D990137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EC2E13-22F0-4076-BE6F-C6D6516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A3B-8108-4BB9-8745-7DBA4B56A92C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4BE3-E3BB-43BC-BE02-B4F4B8783E81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650-64EB-49BE-BFED-900A5DF54264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59D1-1577-47D5-9758-77D9DF68DC10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37A5-8BF2-4515-A9E9-AE9E606131F4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E0E9-DFEF-4B84-9BE0-38A4B426EE40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662-9719-4ED2-ABEA-5EDE15D61750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1E6-AF2F-4084-B3A9-E5EF357B1913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FDB3-23B7-4806-824D-78A339AA1C33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998F-A7A0-4DC6-B5E0-23CE2321EE67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670-A747-4682-BA94-AA233E1F4064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C02-0B36-44A2-B598-D4893E1169E4}" type="slidenum">
              <a:rPr b="1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52440" y="2895480"/>
            <a:ext cx="45720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31840" y="19080"/>
            <a:ext cx="8680320" cy="2668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Refers to couples or individuals who freely choose to remain childlessnes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Stereotyp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Social demographer Fran Baum categorized women who has chosen not to have children into 4 categori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Voluntary Childlessnes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Hedonis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choose to remain childlessness to preserve their standard of living and who are unwilling to invest either their time or money in raising childr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97760" y="4033800"/>
            <a:ext cx="2036880" cy="2714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0" y="4635360"/>
            <a:ext cx="20480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Corbel"/>
              </a:rPr>
              <a:t>Emoti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rbel"/>
              </a:rPr>
              <a:t>Women who do not have an emotional draw toward babies or childre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3213000"/>
            <a:ext cx="3348000" cy="3645000"/>
          </a:xfrm>
          <a:prstGeom prst="rect">
            <a:avLst/>
          </a:prstGeom>
          <a:ln w="0">
            <a:noFill/>
          </a:ln>
        </p:spPr>
      </p:pic>
      <p:sp>
        <p:nvSpPr>
          <p:cNvPr id="522" name="&quot;No&quot; Symbol 3"/>
          <p:cNvSpPr/>
          <p:nvPr/>
        </p:nvSpPr>
        <p:spPr>
          <a:xfrm>
            <a:off x="5148360" y="3681360"/>
            <a:ext cx="3348000" cy="2700360"/>
          </a:xfrm>
          <a:custGeom>
            <a:avLst/>
            <a:gdLst/>
            <a:ahLst/>
            <a:rect l="l" t="t" r="r" b="b"/>
            <a:pathLst>
              <a:path w="3347864" h="2700000">
                <a:moveTo>
                  <a:pt x="0" y="1350000"/>
                </a:moveTo>
                <a:cubicBezTo>
                  <a:pt x="0" y="604416"/>
                  <a:pt x="749445" y="0"/>
                  <a:pt x="1673932" y="0"/>
                </a:cubicBezTo>
                <a:cubicBezTo>
                  <a:pt x="2598419" y="0"/>
                  <a:pt x="3347864" y="604416"/>
                  <a:pt x="3347864" y="1350000"/>
                </a:cubicBezTo>
                <a:cubicBezTo>
                  <a:pt x="3347864" y="2095584"/>
                  <a:pt x="2598419" y="2700000"/>
                  <a:pt x="1673932" y="2700000"/>
                </a:cubicBezTo>
                <a:cubicBezTo>
                  <a:pt x="749445" y="2700000"/>
                  <a:pt x="0" y="2095584"/>
                  <a:pt x="0" y="1350000"/>
                </a:cubicBezTo>
                <a:close/>
                <a:moveTo>
                  <a:pt x="2659051" y="1802999"/>
                </a:moveTo>
                <a:cubicBezTo>
                  <a:pt x="3014899" y="1398950"/>
                  <a:pt x="2834511" y="862141"/>
                  <a:pt x="2261857" y="621002"/>
                </a:cubicBezTo>
                <a:cubicBezTo>
                  <a:pt x="1909376" y="472576"/>
                  <a:pt x="1475248" y="467841"/>
                  <a:pt x="1116727" y="608511"/>
                </a:cubicBezTo>
                <a:lnTo>
                  <a:pt x="2659051" y="1802999"/>
                </a:lnTo>
                <a:close/>
                <a:moveTo>
                  <a:pt x="688813" y="897001"/>
                </a:moveTo>
                <a:cubicBezTo>
                  <a:pt x="332965" y="1301050"/>
                  <a:pt x="513353" y="1837859"/>
                  <a:pt x="1086007" y="2078998"/>
                </a:cubicBezTo>
                <a:cubicBezTo>
                  <a:pt x="1438488" y="2227424"/>
                  <a:pt x="1872616" y="2232159"/>
                  <a:pt x="2231137" y="2091489"/>
                </a:cubicBezTo>
                <a:lnTo>
                  <a:pt x="688813" y="897001"/>
                </a:lnTo>
                <a:close/>
              </a:path>
            </a:pathLst>
          </a:custGeom>
          <a:solidFill>
            <a:srgbClr val="4a5a7a"/>
          </a:solidFill>
          <a:ln w="324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3981600" y="3357720"/>
            <a:ext cx="5130720" cy="3500280"/>
          </a:xfrm>
          <a:prstGeom prst="rect">
            <a:avLst/>
          </a:prstGeom>
          <a:ln w="0">
            <a:noFill/>
          </a:ln>
        </p:spPr>
      </p:pic>
      <p:sp>
        <p:nvSpPr>
          <p:cNvPr id="524" name="&quot;No&quot; Symbol 4"/>
          <p:cNvSpPr/>
          <p:nvPr/>
        </p:nvSpPr>
        <p:spPr>
          <a:xfrm>
            <a:off x="4427640" y="3789360"/>
            <a:ext cx="4248000" cy="2592360"/>
          </a:xfrm>
          <a:custGeom>
            <a:avLst/>
            <a:gdLst/>
            <a:ahLst/>
            <a:rect l="l" t="t" r="r" b="b"/>
            <a:pathLst>
              <a:path w="4248472" h="2592287">
                <a:moveTo>
                  <a:pt x="0" y="1296144"/>
                </a:moveTo>
                <a:cubicBezTo>
                  <a:pt x="0" y="580303"/>
                  <a:pt x="951053" y="0"/>
                  <a:pt x="2124236" y="0"/>
                </a:cubicBezTo>
                <a:cubicBezTo>
                  <a:pt x="3297419" y="0"/>
                  <a:pt x="4248472" y="580303"/>
                  <a:pt x="4248472" y="1296144"/>
                </a:cubicBezTo>
                <a:cubicBezTo>
                  <a:pt x="4248472" y="2011985"/>
                  <a:pt x="3297419" y="2592288"/>
                  <a:pt x="2124236" y="2592288"/>
                </a:cubicBezTo>
                <a:cubicBezTo>
                  <a:pt x="951053" y="2592288"/>
                  <a:pt x="0" y="2011985"/>
                  <a:pt x="0" y="1296144"/>
                </a:cubicBezTo>
                <a:close/>
                <a:moveTo>
                  <a:pt x="3443125" y="1776647"/>
                </a:moveTo>
                <a:cubicBezTo>
                  <a:pt x="4114622" y="1325936"/>
                  <a:pt x="3681283" y="682304"/>
                  <a:pt x="2597456" y="520588"/>
                </a:cubicBezTo>
                <a:cubicBezTo>
                  <a:pt x="2182222" y="458632"/>
                  <a:pt x="1734249" y="480633"/>
                  <a:pt x="1351771" y="581769"/>
                </a:cubicBezTo>
                <a:lnTo>
                  <a:pt x="3443125" y="1776647"/>
                </a:lnTo>
                <a:close/>
                <a:moveTo>
                  <a:pt x="805347" y="815640"/>
                </a:moveTo>
                <a:cubicBezTo>
                  <a:pt x="133850" y="1266351"/>
                  <a:pt x="567189" y="1909983"/>
                  <a:pt x="1651016" y="2071699"/>
                </a:cubicBezTo>
                <a:cubicBezTo>
                  <a:pt x="2066250" y="2133655"/>
                  <a:pt x="2514223" y="2111654"/>
                  <a:pt x="2896701" y="2010518"/>
                </a:cubicBezTo>
                <a:lnTo>
                  <a:pt x="805347" y="815640"/>
                </a:lnTo>
                <a:close/>
              </a:path>
            </a:pathLst>
          </a:custGeom>
          <a:solidFill>
            <a:srgbClr val="f7bd40"/>
          </a:solidFill>
          <a:ln w="3240">
            <a:solidFill>
              <a:srgbClr val="4a5a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Idealistic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do not want to bring a child into the world they feel is unsuitab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0" y="419400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4427640" y="4194000"/>
            <a:ext cx="47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Corbel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who have a practical reason for not having children, such as no wanting to pass on a genetic defect to their chil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Women have to deal with cultural attitudes that imply that they are somehow abnormal or less of a woman if they do not have childr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rbel"/>
              </a:rPr>
              <a:t>Men are still largely defined by their occupation, not their parental stat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buClr>
                <a:srgbClr val="8389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Stereotypes: Voluntary Childless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15:29Z</dcterms:created>
  <dc:creator>Jason</dc:creator>
  <dc:description/>
  <dc:language>en-US</dc:language>
  <cp:lastModifiedBy>Jason</cp:lastModifiedBy>
  <dcterms:modified xsi:type="dcterms:W3CDTF">2011-01-05T14:01:04Z</dcterms:modified>
  <cp:revision>4</cp:revision>
  <dc:subject/>
  <dc:title>6.5 Voluntary Childlessness</dc:title>
</cp:coreProperties>
</file>